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applause.wav" ContentType="audio/x-wav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22C97-CF60-4E50-B2AA-5CCEA1E29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DC4AF-116E-4B98-B30A-0D17D4319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55A19-0C06-49AC-9AF2-72F4C07DF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493B3-1240-4CC9-A859-7DF415878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D3013-5122-4269-A46C-AACE6A67B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16311-1F72-443D-AE33-1164D2A3B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C523F-F536-4E62-BD3C-9AA995DA4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95814-C2E6-494C-BF55-C461815FF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1F714-7F7C-4378-8271-57CED7A3A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E5665-C808-4CB4-9CF6-BA01411F0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9030F-22C3-414B-96ED-284D3E113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2ACB9-5FAF-4CD1-81E5-F818CD6BF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7C35C-BD40-415E-8092-EE12574671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37160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Britannic Bold"/>
              </a:rPr>
              <a:t>Gender Inequality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2133720" y="3962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By: Malou Restaur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                                                       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Carmina Rey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dissolve/>
    <p:sndAc>
      <p:stSnd>
        <p:snd r:embed="rId2" name="applause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62120" y="837720"/>
            <a:ext cx="5486400" cy="567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Sexual subjugatio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5" descr=""/>
          <p:cNvPicPr/>
          <p:nvPr/>
        </p:nvPicPr>
        <p:blipFill>
          <a:blip r:embed="rId2"/>
          <a:stretch/>
        </p:blipFill>
        <p:spPr>
          <a:xfrm>
            <a:off x="1905120" y="190512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5000" spc="-1" strike="noStrike">
                <a:solidFill>
                  <a:srgbClr val="000000"/>
                </a:solidFill>
                <a:latin typeface="Calibri"/>
              </a:rPr>
              <a:t>E N D :D</a:t>
            </a:r>
            <a:endParaRPr b="0" lang="en-US" sz="15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omb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" descr=""/>
          <p:cNvPicPr/>
          <p:nvPr/>
        </p:nvPicPr>
        <p:blipFill>
          <a:blip r:embed="rId2"/>
          <a:stretch/>
        </p:blipFill>
        <p:spPr>
          <a:xfrm>
            <a:off x="146160" y="146160"/>
            <a:ext cx="8858160" cy="64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8610480" cy="632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2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100" spc="-1" strike="noStrike">
                <a:solidFill>
                  <a:srgbClr val="000000"/>
                </a:solidFill>
                <a:latin typeface="Calibri"/>
              </a:rPr>
              <a:t>GENDER INEQUALITY</a:t>
            </a:r>
            <a:endParaRPr b="0" lang="en-US" sz="5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1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4600" spc="-1" strike="noStrike">
                <a:solidFill>
                  <a:srgbClr val="000000"/>
                </a:solidFill>
                <a:latin typeface="Calibri"/>
              </a:rPr>
              <a:t>refers to disparity between individuals due to gender. Gender is constructed both socially through social interactions as well as biologically through chromosomes, brain structure, and hormonal differences.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BELIEFS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One, men and women have different psychological and sexual natures, two- men are inherently the dominant or superior sex, and three – both male female difference and male dominance are natural.” (Bem, 1993)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 txBox="1"/>
          <p:nvPr/>
        </p:nvSpPr>
        <p:spPr>
          <a:xfrm>
            <a:off x="457200" y="38052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It is written in the Bible, “To the woman he (God) said, I will greatly increase your pain in childbearing; with pain you will give birth to children. Your desire will be for you husband, and he will rule over you.” (Genesis 3:16)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09680" y="6858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xtreme Examples of Gender Inequ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6" descr=""/>
          <p:cNvPicPr/>
          <p:nvPr/>
        </p:nvPicPr>
        <p:blipFill>
          <a:blip r:embed="rId2"/>
          <a:srcRect l="14504" t="0" r="14504" b="0"/>
          <a:stretch/>
        </p:blipFill>
        <p:spPr>
          <a:xfrm>
            <a:off x="2438280" y="2438280"/>
            <a:ext cx="5486400" cy="411480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Forbidden from drivin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5486400" cy="567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Right to divorc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4" descr=""/>
          <p:cNvPicPr/>
          <p:nvPr/>
        </p:nvPicPr>
        <p:blipFill>
          <a:blip r:embed="rId2"/>
          <a:srcRect l="7333" t="0" r="7333" b="0"/>
          <a:stretch/>
        </p:blipFill>
        <p:spPr>
          <a:xfrm>
            <a:off x="2133720" y="175248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8080" y="99072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Access to educatio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2209680" y="2133720"/>
            <a:ext cx="5486400" cy="41148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4" descr=""/>
          <p:cNvPicPr/>
          <p:nvPr/>
        </p:nvPicPr>
        <p:blipFill>
          <a:blip r:embed="rId3"/>
          <a:stretch/>
        </p:blipFill>
        <p:spPr>
          <a:xfrm>
            <a:off x="2209680" y="213372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76212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Victims of violenc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5" descr=""/>
          <p:cNvPicPr/>
          <p:nvPr/>
        </p:nvPicPr>
        <p:blipFill>
          <a:blip r:embed="rId2"/>
          <a:srcRect l="1332" t="0" r="1332" b="0"/>
          <a:stretch/>
        </p:blipFill>
        <p:spPr>
          <a:xfrm>
            <a:off x="1752480" y="152388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9T04:13:28Z</dcterms:created>
  <dc:creator>user</dc:creator>
  <dc:description/>
  <dc:language>en-US</dc:language>
  <cp:lastModifiedBy>user</cp:lastModifiedBy>
  <dcterms:modified xsi:type="dcterms:W3CDTF">2012-03-06T17:40:12Z</dcterms:modified>
  <cp:revision>15</cp:revision>
  <dc:subject/>
  <dc:title>Gender and Power</dc:title>
</cp:coreProperties>
</file>